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4.4-</a:t>
            </a:r>
            <a:fld id="{558FD6E7-3287-4158-9183-6FF6EA77CBBA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ynthetic division to help determine the zeros. It is easier to consider the integers before the fr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try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tr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, 1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= 12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 zero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 z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3048120"/>
            <a:ext cx="2444760" cy="1371600"/>
            <a:chOff x="1219320" y="3048120"/>
            <a:chExt cx="2444760" cy="1371600"/>
          </a:xfrm>
        </p:grpSpPr>
        <p:sp>
          <p:nvSpPr>
            <p:cNvPr id="125" name=""/>
            <p:cNvSpPr/>
            <p:nvPr/>
          </p:nvSpPr>
          <p:spPr>
            <a:xfrm>
              <a:off x="3022560" y="3962520"/>
              <a:ext cx="641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81400" y="3962520"/>
              <a:ext cx="64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92520" y="396252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55920" y="39625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19320" y="39625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22560" y="3505320"/>
              <a:ext cx="641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81400" y="3505320"/>
              <a:ext cx="64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92520" y="350532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55920" y="35053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19320" y="35053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22560" y="3048120"/>
              <a:ext cx="641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81400" y="3048120"/>
              <a:ext cx="64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92520" y="304812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55920" y="30481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19320" y="30481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19320" y="3048120"/>
              <a:ext cx="2444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9320" y="4419720"/>
              <a:ext cx="2444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19320" y="3048120"/>
              <a:ext cx="0" cy="1371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64080" y="3048120"/>
              <a:ext cx="0" cy="1371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19320" y="3505320"/>
              <a:ext cx="33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55920" y="3048120"/>
              <a:ext cx="0" cy="4572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55920" y="3962520"/>
              <a:ext cx="2108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22560" y="3962520"/>
              <a:ext cx="0" cy="4572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10080" y="3048120"/>
            <a:ext cx="2444760" cy="1371600"/>
            <a:chOff x="5410080" y="3048120"/>
            <a:chExt cx="2444760" cy="1371600"/>
          </a:xfrm>
        </p:grpSpPr>
        <p:sp>
          <p:nvSpPr>
            <p:cNvPr id="149" name=""/>
            <p:cNvSpPr/>
            <p:nvPr/>
          </p:nvSpPr>
          <p:spPr>
            <a:xfrm>
              <a:off x="7365960" y="396252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24440" y="3962520"/>
              <a:ext cx="641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35560" y="396252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98960" y="39625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0080" y="396252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65960" y="350532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24440" y="3505320"/>
              <a:ext cx="641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35560" y="350532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98960" y="35053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080" y="350532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65960" y="304812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24440" y="3048120"/>
              <a:ext cx="641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35560" y="304812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98960" y="30481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10080" y="304812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080" y="3048120"/>
              <a:ext cx="2444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4419720"/>
              <a:ext cx="2444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3048120"/>
              <a:ext cx="0" cy="1371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854840" y="3048120"/>
              <a:ext cx="0" cy="1371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0080" y="3505320"/>
              <a:ext cx="48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98960" y="3048120"/>
              <a:ext cx="0" cy="4572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98960" y="3962520"/>
              <a:ext cx="1955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65960" y="3962520"/>
              <a:ext cx="0" cy="4572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try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further factor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as 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)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289160" y="2057400"/>
            <a:ext cx="2292120" cy="1371600"/>
            <a:chOff x="1289160" y="2057400"/>
            <a:chExt cx="2292120" cy="1371600"/>
          </a:xfrm>
        </p:grpSpPr>
        <p:sp>
          <p:nvSpPr>
            <p:cNvPr id="175" name=""/>
            <p:cNvSpPr/>
            <p:nvPr/>
          </p:nvSpPr>
          <p:spPr>
            <a:xfrm>
              <a:off x="3092040" y="297180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50880" y="2971800"/>
              <a:ext cx="640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62000" y="2971800"/>
              <a:ext cx="488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25400" y="2971800"/>
              <a:ext cx="336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89160" y="2971800"/>
              <a:ext cx="336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92040" y="251460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50880" y="2514600"/>
              <a:ext cx="640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62000" y="2514600"/>
              <a:ext cx="488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25400" y="2514600"/>
              <a:ext cx="336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89160" y="2514600"/>
              <a:ext cx="336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92040" y="205740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50880" y="2057400"/>
              <a:ext cx="640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62000" y="2057400"/>
              <a:ext cx="488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25400" y="2057400"/>
              <a:ext cx="336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89160" y="2057400"/>
              <a:ext cx="336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89160" y="2057400"/>
              <a:ext cx="2292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89160" y="3429000"/>
              <a:ext cx="2292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89160" y="2057400"/>
              <a:ext cx="0" cy="1371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81280" y="2057400"/>
              <a:ext cx="0" cy="1371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89160" y="2514600"/>
              <a:ext cx="3362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25400" y="2057400"/>
              <a:ext cx="0" cy="4572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25400" y="2971800"/>
              <a:ext cx="19555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92040" y="2971800"/>
              <a:ext cx="0" cy="4572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990720" y="37339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= 0, 3 is a zero. Thu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 is a factor. Using the results of the division above, we can expre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066680" y="4648320"/>
          <a:ext cx="36925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648320"/>
                    <a:ext cx="3692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6553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tional zeros a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, 3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lete factoriza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562720" y="1295280"/>
          <a:ext cx="30456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295280"/>
                    <a:ext cx="3045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990720" y="2895480"/>
          <a:ext cx="44416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895480"/>
                    <a:ext cx="4441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scartes’ Rule of Sig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be a polynomial function with real coefficients and a nonzero constant term. The number of positive real zero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ei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The same as the number of variations of sign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Less than the number of variations of sign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by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ositive even inte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negative real zero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ei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The same as the number of variations of sign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 Less than the number of variations of sign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by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positive even inte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zero of multiplic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be count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Descartes’ rule of signs tell us about the number of positive real zeros and the number of negative real zer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variations of sign, so there are either two or zero positive real zeros to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0"/>
          <a:ext cx="91440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905120" y="2819520"/>
          <a:ext cx="39132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819520"/>
                    <a:ext cx="39132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720" y="1717560"/>
            <a:ext cx="8076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variations of sign, so there are eit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or zero negative real zeros to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Number of Zeros = 4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re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066680" y="1295280"/>
          <a:ext cx="56340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95280"/>
                    <a:ext cx="5634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3429000" y="4495680"/>
            <a:ext cx="0" cy="1295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4495680"/>
            <a:ext cx="0" cy="1295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43400" y="4495680"/>
            <a:ext cx="0" cy="1295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57800" y="4495680"/>
            <a:ext cx="0" cy="1295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48520" y="4495680"/>
            <a:ext cx="0" cy="1295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4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Polynomial and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Rational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440" y="266652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1 Polynomial Functions and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2 Graphing Polynom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3 Polynomial Division; The Remainder and Factor Theor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4 Theorems about Zeros of Polynom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5 Ration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6 Polynomial and Rational Inequ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4.4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eorems about Zeros of Polynomial Fun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228564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 polynomial with specified z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polynomial function with integer coefficients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find the rational zeros and the other zeros, if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Descartes’ rule of signs to find inform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about the number of real zeros of a polynomi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function with real coeffici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e Fundamental Theorem of Algebr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1643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polynomial function of degre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has at least one zero in the system of complex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0"/>
          <a:ext cx="91440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he Fundamental Theorem of Algebra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697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ind a polynomial function of degree 4 having zeros 1, 2,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142640" y="251424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a polynomial has factor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),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and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so we ha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0"/>
          <a:ext cx="91440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219320" y="3581280"/>
          <a:ext cx="4305240" cy="3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581280"/>
                    <a:ext cx="430524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590920" y="4343400"/>
          <a:ext cx="4800600" cy="175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4343400"/>
                    <a:ext cx="48006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Zeros of Polynomial Functions with Real Coefficient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Nonreal Zero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complex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, is a zero of a polynomial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efficients, then its conjugat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also a zero. (Nonreal zeros occur in conjugate pairs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Irrational Zeros: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             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, b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rational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 perfect square, is a zero of a polynomial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ation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efficients, then its conjugate              is also a zer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962520" y="3809880"/>
          <a:ext cx="1230120" cy="4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809880"/>
                    <a:ext cx="123012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670200" y="5113440"/>
          <a:ext cx="1094040" cy="44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0200" y="5113440"/>
                    <a:ext cx="109404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a polynomial function of degree 6 with rational coefficients h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+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as three of its zeros. Find the other z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other zeros are the conjugates of the given zeros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            There are no other zeros because the polynomial of degree 6 can have at most 6 z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010280" y="1981080"/>
          <a:ext cx="8413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981080"/>
                    <a:ext cx="8413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181480" y="3886200"/>
          <a:ext cx="825480" cy="38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886200"/>
                    <a:ext cx="8254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ational Zeros Theor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all the coefficients are integers. Consider a rational number denoted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/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relatively prime (having no common factor besid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and 1).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/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zero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factor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factor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2057400"/>
          <a:ext cx="647712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64771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6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Find the rational zeros and then the other z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Fa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to linear fac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Because the degre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3, there are at most 3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ct zeros. The possibilitie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/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447920" y="4572000"/>
          <a:ext cx="6877080" cy="13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572000"/>
                    <a:ext cx="687708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Jennifer Thomas</cp:lastModifiedBy>
  <dcterms:modified xsi:type="dcterms:W3CDTF">2008-04-07T13:23:06Z</dcterms:modified>
  <cp:revision>189</cp:revision>
  <dc:subject/>
  <dc:title>No Slide Title</dc:title>
</cp:coreProperties>
</file>